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4.jpeg" ContentType="image/jpeg"/>
  <Override PartName="/ppt/media/image3.png" ContentType="image/png"/>
  <Override PartName="/ppt/media/image2.jpeg" ContentType="image/jpeg"/>
  <Override PartName="/ppt/media/push.wav" ContentType="audio/x-wav"/>
  <Override PartName="/ppt/media/image8.png" ContentType="image/png"/>
  <Override PartName="/ppt/media/image7.jpeg" ContentType="image/jpeg"/>
  <Override PartName="/ppt/media/camera.wav" ContentType="audio/x-wav"/>
  <Override PartName="/ppt/media/explode.wav" ContentType="audio/x-wav"/>
  <Override PartName="/ppt/media/wind.wav" ContentType="audio/x-wav"/>
  <Override PartName="/ppt/media/bomb.wav" ContentType="audio/x-wav"/>
  <Override PartName="/ppt/media/image1.jpeg" ContentType="image/jpeg"/>
  <Override PartName="/ppt/media/drumroll.wav" ContentType="audio/x-wav"/>
  <Override PartName="/ppt/media/image6.jpeg" ContentType="image/jpeg"/>
  <Override PartName="/ppt/media/applause.wav" ContentType="audio/x-wav"/>
  <Override PartName="/ppt/media/breeze.wav" ContentType="audio/x-wav"/>
  <Override PartName="/ppt/media/image5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D542-8089-458E-B0C1-349A8AAA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E791-3BCD-4A60-A7C1-EDD6A8C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D423-C096-4864-8E7B-31431383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B055-0D99-4A56-AE89-E9203FE4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4F1-8809-45C9-8756-182545CD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6D9-29E7-4463-B32F-4B6E8269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CD5-B770-4C2E-A441-FEA3EF2E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356-E6E6-4524-9B50-F1955DAC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AC7-A175-44FC-B83D-35A1D05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68F-F877-4860-AC15-A8F0787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C05-B17B-4972-8AC2-E0F3E07C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9785-2D01-4333-A13A-95F9875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8C1D-BC16-4433-ABC1-9A8816B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109A-DD93-4D04-A0FA-6EEDC01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4BA8-C326-4FD1-9CCF-81EF8B8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4BDD-8867-4D5E-89CA-CBCEAA47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CB2-80D3-48F3-820E-25D9BA99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AC8F-D7FF-419B-8DBA-C93375C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77D4-84C7-40C9-A01F-E7663C1B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2F88-F1A8-4900-B3F6-56DB06FF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06AE-6869-46E6-8630-23A9AAD7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CE2D-A6B3-40AB-9CE0-A4DF2B2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045B-7D01-4A49-BADA-08F865C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026D-2D37-4C29-AB42-57563DF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C5A-B718-4C86-A71E-7AF855911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400-BC80-4A02-AAFB-9AFE360DD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"/>
              </a:rPr>
              <a:t>Comparison Of  Car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MW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732 58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Sel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986 78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ng P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439 28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457200"/>
            <a:ext cx="7391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051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gency FB"/>
              </a:rPr>
              <a:t>Where To Buy Car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051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gency FB"/>
              <a:ea typeface="Agency FB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Prodigy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00200" y="1219320"/>
            <a:ext cx="5943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RODI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r conditioning STD- Auto/Climate Dual front zone air con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 Push button heater contro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 Sunroof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- Electric sunroof oper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- See-thru sunroof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 Power window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Front and rear power window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Driver'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Illuminated driver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 -Passenger'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 $39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0492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Features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 spokes="2"/>
    <p:sndAc>
      <p:stSnd>
        <p:snd r:embed="rId3" name="camera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5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yota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253 45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sellers                                                 Call: (02) 1300 485 95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 rot="336000">
            <a:off x="685800" y="456840"/>
            <a:ext cx="7391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64000"/>
                </a:gradFill>
                <a:latin typeface="Impact"/>
              </a:rPr>
              <a:t>Where To Buy C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064000"/>
              </a:gradFill>
              <a:latin typeface="Impact"/>
              <a:ea typeface="Impact"/>
            </a:endParaRPr>
          </a:p>
        </p:txBody>
      </p:sp>
    </p:spTree>
  </p:cSld>
  <p:transition spd="slow">
    <p:cover dir="u"/>
    <p:sndAc>
      <p:stSnd>
        <p:snd r:embed="rId1" name="breeze.wav"/>
      </p:stSnd>
    </p:sndAc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86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62120" y="20574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CHRYSLER 300 C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-lock brakes (AB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door anti-intrusion be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iver's air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nt passenger's airba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nt side (thorax) airba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Door SEDAN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speed AUTOMATIC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$53,99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 rot="21261000">
            <a:off x="2057400" y="228600"/>
            <a:ext cx="5181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5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0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5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0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0" dur="3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5" dur="3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0" dur="3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ysler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ne: (02) 9828 896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x: (02) 9828 897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WARREN AUTOMO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ne: (02) 9828 896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x: (02) 9828 897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7400" y="-228600"/>
            <a:ext cx="51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Where To Buy Ca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47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52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57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2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209680"/>
            <a:ext cx="7086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apyrus"/>
              </a:rPr>
              <a:t>BY Daanial Rehman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apyrus"/>
              </a:rPr>
              <a:t>Year 9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4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5530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2" name="push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198108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514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Wide Latin"/>
              </a:rPr>
              <a:t>VOLVO S40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514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Imprint MT Shadow"/>
              </a:rPr>
              <a:t>2008 Volvo S40 Version 2.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"/>
              </a:rPr>
              <a:t>Payment if improved ca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225520"/>
            <a:ext cx="5638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Base Pr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25,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Sty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7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O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N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Access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N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Custom Build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7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Total(MSRP)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27,470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5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5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15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35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55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15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35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75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15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315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75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915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175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75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e5ff"/>
                </a:solidFill>
                <a:latin typeface="comic"/>
              </a:rPr>
              <a:t>Features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Front Wheel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Driver and Front Passenger Supplemental Restraint System - Dual Threshold Airba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Side Impact Air Bags for Driver and Front Passen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Whiplash Protection Seating System (WHI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Inflatable Side Curtains (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Anti-Lock Brake System (AB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Sirius Satellite Radio, Includes 6-Month Subscri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Price $ 41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3"/>
    <p:sndAc>
      <p:stSnd>
        <p:snd r:embed="rId1" name="explod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5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9500"/>
                            </p:stCondLst>
                            <p:childTnLst>
                              <p:par>
                                <p:cTn id="31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1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31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500"/>
                            </p:stCondLst>
                            <p:childTnLst>
                              <p:par>
                                <p:cTn id="32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8500"/>
                            </p:stCondLst>
                            <p:childTnLst>
                              <p:par>
                                <p:cTn id="33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1500"/>
                            </p:stCondLst>
                            <p:childTnLst>
                              <p:par>
                                <p:cTn id="33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4500"/>
                            </p:stCondLst>
                            <p:childTnLst>
                              <p:par>
                                <p:cTn id="34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7500"/>
                            </p:stCondLst>
                            <p:childTnLst>
                              <p:par>
                                <p:cTn id="35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500"/>
                            </p:stCondLst>
                            <p:childTnLst>
                              <p:par>
                                <p:cTn id="35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53352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empus Sans ITC"/>
              </a:rPr>
              <a:t>Were To Buy Car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Fleet new Volvo sel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303 18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vo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129 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ng pos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267 26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  <p:sndAc>
      <p:stSnd>
        <p:snd r:embed="rId1" name="breeze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526795_11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686480" cy="4171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ind.wav"/>
      </p:stSnd>
    </p:sndAc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2133720"/>
            <a:ext cx="79250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MW 1161 E87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-3688200"/>
            <a:ext cx="700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77920"/>
            <a:ext cx="9150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Release Year: 2007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rice: $41,100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ake: BMW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Badge: 118i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odel: 1 SERI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eries: E87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Body: Hatchback  4 doors  5 seat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Transmission: 6 speed  Automatic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Fuel: 53 Fuel tank capacity (litres) 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Engine: Four cylinders, in-line, chain-driven DOHC, four valves per cylinder, variable valve timing and lift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ower &amp; Torque: 100kW @ 5750rpm KW  180Nm @ 3250rp         Warranty: 3 yr, unlimited km, 3 yr on paint, 12 yr on perforation corrosion,3 yr, 24 hr roadside assistance. </a:t>
            </a: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222000">
            <a:off x="914040" y="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EATURES AND PRIC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6:46:47Z</dcterms:created>
  <dc:creator>Daanial rehman 1</dc:creator>
  <dc:description/>
  <dc:language>en-US</dc:language>
  <cp:lastModifiedBy>Lavinia Sullivan</cp:lastModifiedBy>
  <dcterms:modified xsi:type="dcterms:W3CDTF">2008-03-14T03:46:42Z</dcterms:modified>
  <cp:revision>8</cp:revision>
  <dc:subject/>
  <dc:title>Comparison Of       Cars</dc:title>
</cp:coreProperties>
</file>